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B50-0C81-4227-A290-AD2BCD3E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A15-70E5-4B6E-8DFB-822ED5C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9E70-8217-4F85-B343-916FB4FB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DD60-13B6-476D-B03A-16B8C65C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F9959-9E1A-4362-BB9F-71B94AC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FD321-3C40-4B87-B246-197D2F5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F149D-8D8D-46E5-A458-5B69AD3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4CF0-6C70-48B9-92C9-AB6D13DF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9764F-39D5-47F4-9376-6300EDA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88789-9D3F-49FB-A38D-521A879E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6177A-D1DE-43C8-8941-B0DCF973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71B-3A42-4249-BBAD-61BD62D5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43A-3BD2-4BC7-94E3-FB2F5AD3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D0FB-6684-4B8C-8849-9D45F89D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A1FC-508E-427B-8349-C54118E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F67E-E552-4C39-A4E0-5E3C5B92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F8B0-3C87-4C86-ABBE-4E668F84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235A-92EC-4D6D-97F8-29DB06E3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701-374A-4C5B-B8D2-33EB7B6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5868-9E29-4836-A30A-AB66C305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B56-3AC1-479B-A356-75C6929A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D8BC-2678-4165-AF46-16347CAD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9183-FECB-4CF5-AFDF-0F5BA4F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548-A585-4071-87BF-A9E9E05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87C8-5522-4353-9601-E1F68CF6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BCE9-ECD4-49C0-A014-9E1A1109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EFF9-227A-4DA8-8E5B-FE2E495B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F13C-FF18-4157-9F7C-1D30EE8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7AF4-BE29-46FB-9D97-9BA59C9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52A3-C21C-41FE-ADCA-6EEAEFCA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CA6E-B767-44E8-AAE0-18058A22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2AE-D849-43BF-9CB8-21F5D24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8FC5-79CF-41B9-901C-DA13156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D269-0485-47CF-AEF7-0546764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2AC4-5C57-4081-AAED-47EC7AF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62E5-D119-43BC-B042-3E1D81C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7604-7F61-4A3B-8EB1-39A087B8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6731-DD30-4FA3-8ED3-2D9EA352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059E-3A88-4CB6-BEEB-C8F0E70F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808D-0F22-428C-9A13-06E7C44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F5B0-823F-4568-8543-3597A39A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8102-2D36-4F51-AB67-AD74ECF1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49D-5403-4BB1-A4FC-CD5A628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7B49-D1B8-4560-B84A-A7DAF24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F99B-9B70-444F-BE2F-C590A6A9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E074-CA7F-404F-8321-2287EF1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336D-AE25-4A48-BCFC-425D9E7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BA3D-9D14-4E0B-B8B1-60F57285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EFD7-1DFB-41A4-9103-E5013D7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1BBD-5CCB-4F64-AFC1-8D8352D1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F6DC-5D27-4298-96DC-0E8A3E83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618B-7FC8-46E7-80EA-55FAAD50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B000-068F-46C8-9D3C-476C5097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255-1BBF-48F8-9439-CD337021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E182-56A8-4F27-BBFA-B7FAF33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3BA1-471A-41BF-9D4B-CDE4BB11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F676-02B6-4225-89E0-C35B9264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09B5-CC03-478B-9D51-F8B3740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0AA2-0022-4D79-A2D2-30F9117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BA8D-7D26-4D53-B9C1-366543B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E56B4-D19E-476C-A240-A837216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7001-E333-4B31-95BF-24FBD9D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37A7-E281-4B03-825F-893C3D7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3A40-F523-4F6F-98B9-11DC5DFF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8EF-4B00-49A3-92D7-21C1447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1E5B-4035-4689-B7D8-C5FE53A7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5B9D-3F0E-4EC1-8202-F285F927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AC81-4498-4B68-821F-7A25A29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4E5F-94E0-4DDA-B341-77CEBF2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1EB7-1AB8-414A-A081-D6CD3B48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5A14-2F4C-4FE7-B5B2-8969BF00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CB5E-5613-4A04-A2C8-300F2E5B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BBEA-33ED-4FD8-9FC6-C22AB4E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F1C87-6550-4F9D-8052-AF219B8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6847F-409D-4B4A-A8D8-9590922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DF6-D74D-405F-82DB-E9DA96F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8BE26-CC00-4397-8AA7-F3D54CB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E772-8490-48BC-B4C4-F79BB45A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F829-359F-433C-8DAB-795C001C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D494E-E1B1-4ED7-9F8C-95C42B57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5CB3-3F17-4DF3-A491-16687C13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85EE-CECA-4DB9-BD1F-96309016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3709-E075-44E6-817C-B9121377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8E94-07E5-40C2-84EE-1B63254C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E87AD-7F32-48C7-B86B-1BE4EB5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0F470-1895-47C7-B0EB-549B655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16A-D984-4B9C-A896-CD5E5FE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A74A-1198-4BC3-999B-76AB013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09EC-3EDC-4402-A15F-63A3A04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ACD7-8050-4CD7-AD1A-CD312CC4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552B-A98C-45C8-9D09-1831F165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153F-0CCD-4CED-80FE-CDD62D80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DDABC-EB67-4854-92DD-CD51EAE2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1584D-A4E9-4459-89D0-4914695A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7447-8624-4ED5-8809-92C9F6D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67645-D593-4D06-A7FE-31E41EDA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4F5C5-ED8D-4316-8AE4-7C40537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D95-355D-45A7-9A60-305574B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EB132-93B7-4BEC-B3E9-0E452CE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278C-F314-4C37-9752-5522BA9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FA6D-7EF6-45A7-AAB9-02102D2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A57E3-D19E-4573-A2B9-B1D8CDB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B32EE-088F-4D6E-8BA8-B07C407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8E19-1B45-41A3-9266-D65FB50D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C3453-3611-43C3-A0B8-89D198A1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E8E6A-B4B0-4A4F-9A3D-E868D8B9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3F91E-F51D-4DEE-AFB1-8E55CE8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86294-D287-4001-A09D-6CBCFF0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F525-9306-4B31-8A1B-8DD25170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1FD-1583-4A28-BAB5-D4D802A5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2F96-3B80-4E34-9AF2-4754DE6F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95A2-0E26-4C32-95D1-82E8A09B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2C4-8D11-46F1-AC1E-173A37DD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DC5D-C27D-448D-B0F1-3AEEB1E0A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F93-602D-4656-A96B-34A538349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F9A5-BDD4-4667-BD54-D9F39612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669-8531-44A2-A934-B8C81D77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5 and 4.7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lve equations using radical express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3x-3)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rational function and its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vertic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horizont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he properties of rational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radical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properties and graphs of powe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quations using radic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where f = p(x)/q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1/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40384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Vertic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symptote: when the denominator is zero, there is a vertical asymptote at x=k, where k makes the denominator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2057400" cy="1035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3886200" y="274320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orizont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sympt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lt;m the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=n then the line a/b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gt;m, there will be no horizontal asympto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the asymptot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horizontal and vertical asympt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990720" y="2765520"/>
            <a:ext cx="1981080" cy="892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4952880" y="2616120"/>
            <a:ext cx="2286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e rational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ach side by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Learn the properties of rational exponents and radical nota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/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n=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Understand the properties and graphs of power fu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b is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 is an integer greater than or equal t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9:46:00Z</dcterms:created>
  <dc:creator>nuhs</dc:creator>
  <dc:description/>
  <dc:language>en-US</dc:language>
  <cp:lastModifiedBy>nuhs</cp:lastModifiedBy>
  <dcterms:modified xsi:type="dcterms:W3CDTF">2008-02-20T21:24:24Z</dcterms:modified>
  <cp:revision>3</cp:revision>
  <dc:subject/>
  <dc:title>4.5 and 4.7</dc:title>
</cp:coreProperties>
</file>